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8BE-0971-40A2-98B5-02997839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A28-1C11-4B0C-884A-046EA9B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F31-FD8A-448E-9F0C-E838846B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FEC-26BE-4DF0-9366-5DCF581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94D-A624-4B39-814C-4E3E3DB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3DF-0761-4B84-81C4-76EC04D3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289-4042-4010-A1D6-DF8F8AA3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275-3D7D-43A4-B40A-1F28DC0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B298-7132-4256-847C-E8549BEA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252-FE4B-4695-B6AE-C88FC1E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F1B-1911-4C97-8213-A690A68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0B0-261E-4ABA-9773-D9690F7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628-D9F4-4FB2-AECE-A33DC0DE9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136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19640" y="162864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51Z</dcterms:modified>
  <cp:revision>32</cp:revision>
  <dc:subject/>
  <dc:title>SALARIUL</dc:title>
</cp:coreProperties>
</file>